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4F6-7921-4A1C-8272-BA1E146A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4C4-97E5-48E4-B25B-3A3314309C2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637-0FF5-4A55-A787-6E489301B57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482-285E-4CAE-AA22-8A3F8FECE19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have attended a Lessons Learned session bef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D35-DDF3-49AE-BB56-7977674B28C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forum for analyzing past efforts and sharing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during (heartbeat) and after a project or initi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headline making problems or disasters from occur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BC6-AA35-476C-9F7D-3A467A58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C87-CDC7-443C-B4C7-83E51B84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F34-23E4-48F6-9A17-73757AF3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AEA-1AE7-45CF-82A8-6ACB8F00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D6B-62B4-46DF-98D1-020495D3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E84-AFCC-40F4-8BD3-7253CC5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3B7-7A77-4743-90E0-F700F17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35F-D3CC-4962-A3B9-7F7A720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0D94-CBB7-4684-80A3-E37C83F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2B6E-C7AC-40A3-93CA-CC97F0C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9A77-F05A-4BEE-9658-E58AD7D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806-9EB4-4766-8878-0A6E8689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CDEB-3582-4819-9DE0-74C0BA3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B001-EBCD-407E-B7A9-99954ADA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59D-6D57-43CE-B3E1-6AEE620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777-65F0-4C39-898F-F6F272BF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2CFE-9AE4-487B-AF9C-8C54AF52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5F0-6BCB-4FE8-AEC4-E8E3E7B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E9A-12E7-4D58-BF4B-578A6484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1C4-803B-4A10-8692-947FE5C5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581-338C-4BFC-9247-EB85773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E2E-C56A-48B6-B797-F5BC835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BF1-AC90-4825-A01E-EE16F13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0A8-81AF-4F82-A5A9-7B51A98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ne 24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nnsylvania Department of Public Welf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reau of Informatio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3EDFE0-08FC-493E-9F41-705C132695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June 24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nsylvania Department of Public Welf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4A99-A370-45FE-BCD1-F28A59FCD05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pw.state.pa.u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ATS Lessons Learn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17760" y="939960"/>
            <a:ext cx="25084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CD2A9D4B-768B-4755-B861-4A073416E06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9" descr="MPj03096400000[1]"/>
          <p:cNvPicPr/>
          <p:nvPr/>
        </p:nvPicPr>
        <p:blipFill>
          <a:blip r:embed="rId1"/>
          <a:stretch/>
        </p:blipFill>
        <p:spPr>
          <a:xfrm>
            <a:off x="5216400" y="144792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545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t D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hases/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on &amp; Cont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Clo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 Learned – June 24, 20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D2C580B6-9285-41FB-B24A-E3BDB6A113D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 Walkthroug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ach event/milestone identif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work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id not work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areas to focus on rather than specific solu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ve examp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assume or inf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485B69BF-D26D-4482-9FD9-B871C9690C6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as to Cons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55760" y="1309680"/>
          <a:ext cx="8226360" cy="4788000"/>
        </p:xfrm>
        <a:graphic>
          <a:graphicData uri="http://schemas.openxmlformats.org/drawingml/2006/table">
            <a:tbl>
              <a:tblPr/>
              <a:tblGrid>
                <a:gridCol w="2057400"/>
                <a:gridCol w="2055600"/>
                <a:gridCol w="2057400"/>
                <a:gridCol w="2055960"/>
              </a:tblGrid>
              <a:tr h="74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chnical Manag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uman Facto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 Plan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ustomer Satisfac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ecifica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am Experie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chnical Succes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isk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st Pl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Project Sponso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Quality Produ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ange Contro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Custom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duct Accept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n Tim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llo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nagement Suppor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ithin Budge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AA16473C-F60F-47EE-BEAC-0DA2D38B1C5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85840" y="2742840"/>
            <a:ext cx="50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Time-Ou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4" descr="MPj03855350000[1]"/>
          <p:cNvPicPr/>
          <p:nvPr/>
        </p:nvPicPr>
        <p:blipFill>
          <a:blip r:embed="rId1"/>
          <a:stretch/>
        </p:blipFill>
        <p:spPr>
          <a:xfrm>
            <a:off x="609480" y="1295280"/>
            <a:ext cx="32133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6E1B5BF6-BF92-45B6-B8D9-4B6913C1F5A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on 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oritize issues to be address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how each issue could be resolved in the fu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be too ambitious in any one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necessary, decrease the scope of the action to something that could be realistically achie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F3DF9948-F0C0-40C8-BB21-FDA05DF501B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on 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type of action is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rt-term fix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ot cause solution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outside of your sphere of responsibility, how can you influence the decision-mak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responsible for each ac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95ABAAAF-74E6-4A83-BE41-8F2076351F9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4" descr="MPj04385660000[1]"/>
          <p:cNvPicPr/>
          <p:nvPr/>
        </p:nvPicPr>
        <p:blipFill>
          <a:blip r:embed="rId1"/>
          <a:stretch/>
        </p:blipFill>
        <p:spPr>
          <a:xfrm>
            <a:off x="5484960" y="1598760"/>
            <a:ext cx="3049560" cy="4497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rospective output will be written and shared with the grou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 will be published within the PMO for use on future efforts with Hearings and Appeals, as well as with other BIS supported pro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AC99DD53-C5AB-4801-BE11-F35E8330F69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ank you for coming!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voice is very important to the Bureau of Information Systems. We look forwarding to working with you soon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14400" y="5029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act: Carole Hussey, 717-772-7980, or chussey@state.pa.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BAF9ABFB-3246-4C01-93B6-6A1BA17040A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MPj04016680000[1]"/>
          <p:cNvPicPr/>
          <p:nvPr/>
        </p:nvPicPr>
        <p:blipFill>
          <a:blip r:embed="rId1"/>
          <a:stretch/>
        </p:blipFill>
        <p:spPr>
          <a:xfrm>
            <a:off x="3886200" y="1857240"/>
            <a:ext cx="4876920" cy="3248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ound R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 Learned Defin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me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91712719-22B5-47B6-BA16-9D1A071A871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nd R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rn your cell phone to sil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interruptions or judg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names MUST be mentioned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 it profession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personali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ribute openly to the discu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needed actions explici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thers you would like to ad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669074EB-0B23-495E-A02E-A032F84C86E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 from our experi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gage in a dialogue that will give each of us a view of alternative perspec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e team communic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 an action plan for application on future initi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c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F6381531-2D8D-4B56-8313-E5E5884AD46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7617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What is a Lessons Learned Session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MPj04387390000[1]"/>
          <p:cNvPicPr/>
          <p:nvPr/>
        </p:nvPicPr>
        <p:blipFill>
          <a:blip r:embed="rId1"/>
          <a:stretch/>
        </p:blipFill>
        <p:spPr>
          <a:xfrm>
            <a:off x="2209680" y="2514600"/>
            <a:ext cx="47419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8BE03940-39EE-4AD0-8DBC-FBB3CD41241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s Learned Defin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retrospective of past events or 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instorming ideas for working more effectively going forwar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ing actions for applying lessons learned to future initi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ing team communic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524AFF97-8539-4F66-AC2F-EA089F712BD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arings &amp; Appe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HS Bureau of Information Systems (BI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ject Management Office (PMO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sion of Enterprise Applications (DE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sion of Technology Engineering (D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10" descr="MPj04227550000[1]"/>
          <p:cNvPicPr/>
          <p:nvPr/>
        </p:nvPicPr>
        <p:blipFill>
          <a:blip r:embed="rId1"/>
          <a:stretch/>
        </p:blipFill>
        <p:spPr>
          <a:xfrm>
            <a:off x="4645080" y="1828800"/>
            <a:ext cx="40370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E7738707-E8EA-473E-9F50-B7A5B02F1DA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me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 the Time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positive, neutral, and negative events/actions that occurred during the projec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meline Walkthroug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worked well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still puzzles u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itize identified issu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 reasonable, in terms of what is do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BCA69652-5D54-403A-85E7-5B3765ED7AF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st actual events or milestones in chronological or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yet identifying whether it was good or b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pically this is a shared view of what happened when, fact-bas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10:33Z</dcterms:created>
  <dc:creator>mkoerber@pa.gov</dc:creator>
  <dc:description/>
  <dc:language>en-US</dc:language>
  <cp:lastModifiedBy>dpwuser</cp:lastModifiedBy>
  <dcterms:modified xsi:type="dcterms:W3CDTF">2015-04-28T13:25:25Z</dcterms:modified>
  <cp:revision>20</cp:revision>
  <dc:subject/>
  <dc:title>HATS Lessons Learn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27500.000000000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xd_ProgID">
    <vt:lpwstr/>
  </property>
  <property fmtid="{D5CDD505-2E9C-101B-9397-08002B2CF9AE}" pid="9" name="xd_Signature">
    <vt:lpwstr/>
  </property>
</Properties>
</file>