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475F-26F4-4056-B613-E7F153E97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D290-1BC6-4362-B9FE-6954C9134AC5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002D-585A-4AA9-9C05-09F611F3D74E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3527-A4AB-453E-B9FB-17B26AD48626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have attended a Lessons Learned session befo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E15C-1897-47F5-B287-2BC8862495AC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cussion forum for analyzing past efforts and sharing perspec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ed during (heartbeat) and after a project or initi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s headline making problems or disasters from occur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4A5C-3F64-45F6-A244-EA477A7E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91AA-F646-4AB3-A7C0-3082A0A3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6735-578A-4E3E-BA4D-49A13795B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08C7-C87F-4AFD-BF3D-D241346D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9D25-E28E-435F-B36F-D343997B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8BF7-C029-4971-87AA-9B737BAF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E2C1-A61F-47FF-B282-9A7818A0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DECC-9DE4-42BD-A8AD-ABED631C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308D-A0EA-44F3-99C9-D982556F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10AB-981B-46B9-AD99-CEBCEFB0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7F52-C75F-4F50-8997-1619714D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0ECC-DB34-45D5-8BD1-FFAA82D4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55B0-4CA3-4AD6-9F49-A1A1A59A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06FC-12ED-47D6-97C2-815C17D1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6A03-5BEA-4FC5-97A8-E704D35B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213F-C485-4AD1-B53F-8122260C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CC3D-55C6-4492-91D2-B807E76EE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90AF-77FE-42D5-BE37-BA29028F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D21F-C957-4A67-BC21-72A698EF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708C-FE76-4A69-8A31-A7CDE6EE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DF2E-16D0-4F44-8DBD-3D5B294C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9249-B47B-4E0D-8443-2C715B60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43FB-F6F7-46C8-9FF8-162D90D4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CBA7-A269-4213-B4B0-A5D34525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ne 24,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ennsylvania Department of Public Welf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reau of Information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FC03E29-C890-4B76-8D48-B83F051A31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June 24,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Pennsylvania Department of Public Welf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2501-D199-4C5B-BE2B-A6370F4281D7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pw.state.pa.us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HATS Lessons Learned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Picture 7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17760" y="939960"/>
            <a:ext cx="250848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4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Footer Placeholder 5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ennsylvania Department of Human Service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Bureau of Information System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Slide Number Placeholder 6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E121D095-6AA0-486D-B86C-DA9C3092D878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Picture 9" descr="MPj03096400000[1]"/>
          <p:cNvPicPr/>
          <p:nvPr/>
        </p:nvPicPr>
        <p:blipFill>
          <a:blip r:embed="rId1"/>
          <a:stretch/>
        </p:blipFill>
        <p:spPr>
          <a:xfrm>
            <a:off x="5216400" y="1447920"/>
            <a:ext cx="2936880" cy="41148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7545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art Da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hases/Activit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rateg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iti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ecution &amp; Contro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ject Clos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ssons Learned – June 24, 2008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3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ennsylvania Department of Human Service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Bureau of Information System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5273CEE5-6E0B-4C81-B723-87B3263EB6E0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meline Walkthroug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each event/milestone identify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work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hat did not work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dentify areas to focus on rather than specific solu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ive examp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n’t assume or inf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3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ennsylvania Department of Human Service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Bureau of Information System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AB5D7F33-1F7A-4FEC-B1C0-F2412B200193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eas to Consid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455760" y="1309680"/>
          <a:ext cx="8226360" cy="4788000"/>
        </p:xfrm>
        <a:graphic>
          <a:graphicData uri="http://schemas.openxmlformats.org/drawingml/2006/table">
            <a:tbl>
              <a:tblPr/>
              <a:tblGrid>
                <a:gridCol w="2057400"/>
                <a:gridCol w="2055600"/>
                <a:gridCol w="2057400"/>
                <a:gridCol w="2055960"/>
              </a:tblGrid>
              <a:tr h="749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ject Managemen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echnical Management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Human Factors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Overall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ject Planning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quirement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mmunicati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ustomer Satisfacti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esource Managemen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Specification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eam Experien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echnical Succes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49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isk Managemen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est Pl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teraction with Project Sponso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Quality Produc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hange Contro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Constructi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teraction with Custom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duct Accepted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rocuremen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Testing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Interaction with Managemen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On Tim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Budget Managemen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Rollou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Management Suppor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Within Budge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ennsylvania Department of Human Service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Bureau of Information System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F3F2A298-E0D8-4FDC-B113-0C50759EAB8C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85840" y="2742840"/>
            <a:ext cx="50259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Arial"/>
              </a:rPr>
              <a:t>Time-Out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Picture 4" descr="MPj03855350000[1]"/>
          <p:cNvPicPr/>
          <p:nvPr/>
        </p:nvPicPr>
        <p:blipFill>
          <a:blip r:embed="rId1"/>
          <a:stretch/>
        </p:blipFill>
        <p:spPr>
          <a:xfrm>
            <a:off x="609480" y="1295280"/>
            <a:ext cx="321336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ennsylvania Department of Human Service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Bureau of Information System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244ED515-646B-4A3D-83D6-271FDE5A5496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tion Plan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ioritize issues to be address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dentify how each issue could be resolved in the futur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n’t be too ambitious in any one ac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necessary, decrease the scope of the action to something that could be realistically achiev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Date Placeholder 3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ennsylvania Department of Human Service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Bureau of Information System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D7C2F43C-7879-45BF-90F9-451A3B076256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ction Plan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type of action is i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ort-term fix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oot cause solution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outside of your sphere of responsibility, how can you influence the decision-maker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o is responsible for each action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4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Footer Placeholder 5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ennsylvania Department of Human Service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Bureau of Information System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Slide Number Placeholder 6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0B07BE5E-B1FB-4BC4-8E47-1BBDCC8A8819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9" name="Picture 4" descr="MPj04385660000[1]"/>
          <p:cNvPicPr/>
          <p:nvPr/>
        </p:nvPicPr>
        <p:blipFill>
          <a:blip r:embed="rId1"/>
          <a:stretch/>
        </p:blipFill>
        <p:spPr>
          <a:xfrm>
            <a:off x="5484960" y="1598760"/>
            <a:ext cx="3049560" cy="44971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51055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trospective output will be written and shared with the group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ction Plan will be published within the PMO for use on future efforts with Hearings and Appeals, as well as with other BIS supported projec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Date Placeholder 3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Footer Placeholder 4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ennsylvania Department of Human Service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Bureau of Information System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Slide Number Placeholder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31963235-A030-4505-B93C-6D36007033FD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ank you for coming!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Your voice is very important to the Bureau of Information Systems. We look forwarding to working with you soon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914400" y="502920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tact: Carole Hussey, 717-772-7980, or chussey@state.pa.u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4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Footer Placeholder 5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ennsylvania Department of Human Service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Bureau of Information System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Slide Number Placeholder 6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4EF2A0CE-116D-4B31-AA63-570383FDE908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Picture 4" descr="MPj04016680000[1]"/>
          <p:cNvPicPr/>
          <p:nvPr/>
        </p:nvPicPr>
        <p:blipFill>
          <a:blip r:embed="rId1"/>
          <a:stretch/>
        </p:blipFill>
        <p:spPr>
          <a:xfrm>
            <a:off x="3886200" y="1857240"/>
            <a:ext cx="4876920" cy="3248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round Ru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ssons Learned Defin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ame Pl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ction Pla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ennsylvania Department of Human Service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Bureau of Information System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D39C9244-FC62-4BA6-B332-977D1F29AF6A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ound Ru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urn your cell phone to sile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interruptions or judgm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f names MUST be mentioned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keep it professiona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personaliti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ribute openly to the discuss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dentify needed actions explicitl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thers you would like to add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3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ennsylvania Department of Human Service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Bureau of Information System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6AF7DEB1-1E23-406F-992C-192C5B5BE375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 from our experienc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ngage in a dialogue that will give each of us a view of alternative perspectiv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rove team communica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reate an action plan for application on future initiativ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Date Placeholder 3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Footer Placeholder 4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ennsylvania Department of Human Sercice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Bureau of Information System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1A468161-8BB1-4A35-BF0F-0258EAA969F6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7617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Arial"/>
              </a:rPr>
              <a:t>What is a Lessons Learned Session?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Picture 4" descr="MPj04387390000[1]"/>
          <p:cNvPicPr/>
          <p:nvPr/>
        </p:nvPicPr>
        <p:blipFill>
          <a:blip r:embed="rId1"/>
          <a:stretch/>
        </p:blipFill>
        <p:spPr>
          <a:xfrm>
            <a:off x="2209680" y="2514600"/>
            <a:ext cx="474192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ennsylvania Department of Human Service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Bureau of Information System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268A64E7-9A5C-44C0-B485-80CCE8A830EA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ssons Learned Defin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retrospective of past events or ac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rainstorming ideas for working more effectively going forwar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eloping actions for applying lessons learned to future initiativ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roving team communica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4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Footer Placeholder 5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ennsylvania Department of Human Service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Bureau of Information System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1F2030D6-A020-49F5-8CCE-0AEA53DA484B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Tea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ilit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arings &amp; Appe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HS Bureau of Information Systems (BI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ject Management Office (PMO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vision of Enterprise Applications (DEA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vision of Technology Engineering (DT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3" name="Picture 10" descr="MPj04227550000[1]"/>
          <p:cNvPicPr/>
          <p:nvPr/>
        </p:nvPicPr>
        <p:blipFill>
          <a:blip r:embed="rId1"/>
          <a:stretch/>
        </p:blipFill>
        <p:spPr>
          <a:xfrm>
            <a:off x="4645080" y="1828800"/>
            <a:ext cx="403704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ennsylvania Department of Human Service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Bureau of Information System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EE6218DE-0A61-473E-8E4C-000BA5309CB7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ame Pl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reate the Timel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dentify positive, neutral, and negative events/actions that occurred during the projec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imeline Walkthroug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worked well?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still puzzles u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ioritize identified issu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ction Plann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 reasonable, in terms of what is doabl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3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June 24, 200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ennsylvania Department of Human Service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Bureau of Information Systems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Slide Number Placeholder 5"/>
          <p:cNvSpPr/>
          <p:nvPr/>
        </p:nvSpPr>
        <p:spPr>
          <a:xfrm>
            <a:off x="6553080" y="6242040"/>
            <a:ext cx="213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E228E8AA-1533-44CF-909C-BBDC9B016321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ate Timel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ist actual events or milestones in chronological ord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t yet identifying whether it was good or ba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ypically this is a shared view of what happened when, fact-bas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10:33Z</dcterms:created>
  <dc:creator>mkoerber@pa.gov</dc:creator>
  <dc:description/>
  <dc:language>en-US</dc:language>
  <cp:lastModifiedBy>dpwuser</cp:lastModifiedBy>
  <dcterms:modified xsi:type="dcterms:W3CDTF">2015-04-28T13:25:25Z</dcterms:modified>
  <cp:revision>20</cp:revision>
  <dc:subject/>
  <dc:title>HATS Lessons Learne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127500.000000000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  <property fmtid="{D5CDD505-2E9C-101B-9397-08002B2CF9AE}" pid="5" name="TemplateUrl">
    <vt:lpwstr/>
  </property>
  <property fmtid="{D5CDD505-2E9C-101B-9397-08002B2CF9AE}" pid="6" name="_SharedFileIndex">
    <vt:lpwstr/>
  </property>
  <property fmtid="{D5CDD505-2E9C-101B-9397-08002B2CF9AE}" pid="7" name="_SourceUrl">
    <vt:lpwstr/>
  </property>
  <property fmtid="{D5CDD505-2E9C-101B-9397-08002B2CF9AE}" pid="8" name="xd_ProgID">
    <vt:lpwstr/>
  </property>
  <property fmtid="{D5CDD505-2E9C-101B-9397-08002B2CF9AE}" pid="9" name="xd_Signature">
    <vt:lpwstr/>
  </property>
</Properties>
</file>