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6288CA-A104-4386-846E-1A9656460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28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11A7D0-C076-4602-AAD2-9CB101EBB1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37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C684DB-8428-4951-909B-22F3E1340E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38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4D037A-BFD0-48EE-ADC5-6369C73A03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39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20635D-28FE-4501-BE09-64B5A81D88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&amp; User Training Planning Begins (Lots 1-5):  It can start sooner depending upon specifics of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40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F7CE77-2E42-40BB-B259-37A18412E0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41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632AF0-C063-433A-A244-5848A59BA6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/ Operational Readiness Certification – Used to inform a Project “Go / No-Go” d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42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FF4070-D226-45A8-8E67-CCEDAACDF4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43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BA344C-D405-4412-9C4C-6F4D19ECFA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44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B38C8C-7B55-4A43-9F27-CB426E0A65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45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E5FF2E-42B8-4FC0-9FC8-6BB3B62763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46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12C114-1CDA-42B8-ABD5-7697AF5A9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9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B6E2A9-779D-4861-AB20-64C5478CED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7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A6730B-1708-42B3-B8F1-7BC919105D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48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C85DF4-50FD-40A4-B54C-156B637AD1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49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4B015F-69AD-4ED7-9682-6C03E08AD1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50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D9B480-6109-4EE1-B902-494F776A3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PMG – No acronym (initi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G – Public Consult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S - Affiliated Computer Services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30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BA8044-E926-43BC-B584-16970A6F68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31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83F6B2-1740-4AC3-9DD6-7A3D506B00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32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B0C41-A2E9-4701-9EB0-6213867576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ve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Includes the IT Executive Governance Board and the Business Technology Coun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 Management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Steering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Manag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Project Teams, sub-project tea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33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DDFDA-49DC-4180-98B5-B38F44874D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34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5CCDDC-7F78-4BAA-8ACD-2EFC160B4E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35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5D24DF-CBAE-4A34-91A0-B281039786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7960" cy="34858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0920" y="4415760"/>
            <a:ext cx="560808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rm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36"/>
          </p:nvPr>
        </p:nvSpPr>
        <p:spPr>
          <a:xfrm>
            <a:off x="3970800" y="8830080"/>
            <a:ext cx="3037320" cy="46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E80086-7A25-453D-A538-4929A4E8A47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DE50-E3FE-4936-A902-251446265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8671-8D2F-4AEC-8973-6F271E247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EC13-9F2F-4E7C-84CE-35B86AC3F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1D5D-EB47-4B83-AC28-134DCDEA6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B899-55AC-4936-AF89-265F18E8E7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909F-AEB8-4CF8-B052-8FCEF70AB3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17918-BF51-4602-BB96-7BDCCF8F12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C13F-6B68-43FC-9297-C0C865BD68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F8A5-558A-4C78-8D1A-2707CD20FF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9647-2374-46A0-8E28-B8955A4223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66C5-3DC3-4DD9-8A21-C9D169F37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DFF8A-D412-43CA-A583-85D7BF8B2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0E034-CB38-4AE1-AA9B-DEE5E47AC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E7B6-C8EF-4FF7-A34C-9568DE84D8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5A11-1CDC-4D52-B638-921E7E4E5F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E85AB-88F5-4F75-AF63-0910EE925E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EAD21-4D6D-4136-8CC0-62FD60963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EDC4-439A-4EB6-BCD2-39CDD612B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0B88-86DF-4017-9F7E-812DC3188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1BB9-23D3-4A63-96DC-B4321BD73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0D6C-9AD3-4BCF-B396-2EDB7D7B7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9E13-C932-40FA-A7DD-B8481BC28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AC22-F619-43B6-A148-8E2F1E7D0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B81B-BCE9-4ED4-AF48-A05D9B246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7086600" y="6095880"/>
            <a:ext cx="1904760" cy="609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DPW PowerPoint Templateinsid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9f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936BDA-78B7-497B-A836-7D0CC35F58DE}" type="slidenum">
              <a:rPr b="0" lang="en-US" sz="1200" spc="-1" strike="noStrike">
                <a:solidFill>
                  <a:srgbClr val="8b8b9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7086600" y="6095880"/>
            <a:ext cx="1904760" cy="609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DPW PowerPoint Templateinside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3AE0CCA-1522-42CD-B20C-73898A123A94}" type="slidenum">
              <a:rPr b="0" lang="en-US" sz="1200" spc="-1" strike="noStrike">
                <a:solidFill>
                  <a:srgbClr val="8b8b8b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ibennett@pa.gov" TargetMode="External"/><Relationship Id="rId2" Type="http://schemas.openxmlformats.org/officeDocument/2006/relationships/hyperlink" Target="mailto:jheil@pa.gov" TargetMode="External"/><Relationship Id="rId3" Type="http://schemas.openxmlformats.org/officeDocument/2006/relationships/hyperlink" Target="mailto:losteele@pa.gov" TargetMode="External"/><Relationship Id="rId4" Type="http://schemas.openxmlformats.org/officeDocument/2006/relationships/hyperlink" Target="mailto:jreeder@pa.gov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DPW PowerPoint Template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9" name="Rectangle 2"/>
          <p:cNvSpPr/>
          <p:nvPr/>
        </p:nvSpPr>
        <p:spPr>
          <a:xfrm>
            <a:off x="914400" y="3809880"/>
            <a:ext cx="7238520" cy="60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T Contract Transi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gram Off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2286000" y="5043600"/>
            <a:ext cx="4114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Division of Enterprise Program &amp; Portfoli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Num" idx="14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971C0D-6B87-40DD-870F-347981601D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04920" y="1143000"/>
            <a:ext cx="8381520" cy="46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-off to Lot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k-Through of Business Requirements Definition (B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 / Clarify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d by BIS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 - 6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TC Approval of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164240" y="152280"/>
            <a:ext cx="4809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Num" idx="15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FEB519-3780-4E5B-9D67-5BCFE8FB99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4343400" y="1143000"/>
            <a:ext cx="45716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6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Technical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d HLE and Work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Feasibility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Solut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Review Board (AR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711720" y="152280"/>
            <a:ext cx="5668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 Requirements / G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440" cy="4723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Num" idx="16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0293DA0-954A-4E74-9AC2-E1BCDB48E6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304920" y="1143000"/>
            <a:ext cx="83815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-off to Lot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k-through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Requirements Definition (S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Systems Design (GS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lidate / Clarify / Align SRD &amp; G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6 &amp; 7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d by BIS 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Num" idx="17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076A24-BED3-4667-AECD-618AF87CA4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648320" y="1143000"/>
            <a:ext cx="434304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7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 creation - D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ntin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&amp; User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 Profile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k-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ment of Test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28600" y="152280"/>
            <a:ext cx="6857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tailed System Design /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343040" cy="4876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Num" idx="18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933DE0-1974-4E25-875B-30D148B208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304920" y="1110960"/>
            <a:ext cx="83815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nd-off for User Accept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and 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Need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Quality Assurance (prior to software promotion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Num" idx="19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2101FC2-5846-4F4A-A54A-FFF9C12DC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4191120" y="1219320"/>
            <a:ext cx="4744080" cy="52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 cre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ect Re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/ Operational Readiness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Guides / Tip Shee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Material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st Plan Upda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 Approv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ntin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Support &amp; User Training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Contin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ining Delivery Plan Finalized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152280"/>
            <a:ext cx="7238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r Acceptance Testing /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85840" cy="48002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Num" idx="20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8E41250-AD79-463C-97EF-2644B5C6C2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304920" y="1110960"/>
            <a:ext cx="8381520" cy="49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al Readiness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adiness Certifica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adiness Certificatio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 Requirements SLA Check-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s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Quality Assurance (prior to software promotion throu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 – Project Over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Num" idx="21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ECD84B-6723-4A63-ADA0-996583C55E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3818160" y="1143000"/>
            <a:ext cx="509688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7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&amp; 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Project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tion Play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adiness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adiness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eld / User Support and Tr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ion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523880" y="152280"/>
            <a:ext cx="3556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2514240" cy="4419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Num" idx="22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992214F-F59C-4CD3-BAAF-3DB0E1BF7A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733920" y="1447920"/>
            <a:ext cx="525744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Lot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v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Metrics Comparis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oject Ch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Closeou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ware Transition to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 - Maintenance Chang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38200" y="228600"/>
            <a:ext cx="4111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peratio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659880" y="1455840"/>
            <a:ext cx="2895120" cy="4190760"/>
          </a:xfrm>
          <a:prstGeom prst="rect">
            <a:avLst/>
          </a:prstGeom>
          <a:ln w="9525">
            <a:noFill/>
          </a:ln>
        </p:spPr>
      </p:pic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Num" idx="23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F10FD40-A771-42B8-8968-7111AE1FFC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304920" y="1143000"/>
            <a:ext cx="8539560" cy="53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ease Management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Schedule  –  Applies to all 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riance from original project schedule will be calcu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Deliverables – Applies to all L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on-time deliverable submissions calcu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al Requirements  –  Applies to Lots 6,7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functional requirements delivered when project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ion Release Error Rates  –  Applies to Lot 7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tal # of Errors released into production with project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ergency Software Releases  –  Applies to Lot 7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ber of Post-Implementation Error Fi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Desk Management S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of Service  –  Applies to Lots 3,5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centage of Help Desk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Resoluti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Abandon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occurring Problems  –  Applies to Lots 3,5 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buClr>
                <a:srgbClr val="000000"/>
              </a:buClr>
              <a:buFont typeface="Wingdings 2" charset="2"/>
              <a:buChar char="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eat calls to Help Desk for same issue within a 30-day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6-09 – Service Level Agre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Num" idx="6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6F2DF2C-1C73-4E9F-9545-2EF7E59658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93" name="Object 1"/>
          <p:cNvGraphicFramePr/>
          <p:nvPr/>
        </p:nvGraphicFramePr>
        <p:xfrm>
          <a:off x="609480" y="1219320"/>
          <a:ext cx="830556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830556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1219320" y="15228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152280" y="4038480"/>
            <a:ext cx="91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chnic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6320" y="2286000"/>
            <a:ext cx="990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/ Consul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Num" idx="24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AA1DC6-A81E-41D6-94E0-CF1496B179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219320" y="22860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Questions 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1062720" y="1981080"/>
            <a:ext cx="640044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 of Information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hard Benne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ribennett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nathan He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jheil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ri Ste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losteele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ill Ree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4"/>
              </a:rPr>
              <a:t>jreeder@p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Num" idx="25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CFA95C8-1A42-4039-BDDE-99697F7F42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304920" y="1143000"/>
            <a:ext cx="83815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cro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al Planning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chitectural Review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nefit Cost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Intelli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 of Inform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lanning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P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rocess Re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Technology 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ef Information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pability Maturity Model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Enterpris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M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Enterprise Program and Portfoli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: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Num" idx="26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7DC8E4-65D0-473D-A346-8404C9396A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304920" y="1143000"/>
            <a:ext cx="838152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cro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Infrastructure Management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P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partment of Public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ed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ision of Technology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erpris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l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Level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e and Community Services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Client Inform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 Technology Infrastructur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Information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C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nsylvania’s Child Support Enfor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LI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nsylvania’s Enterprise To Link Information F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ldren Across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: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Num" idx="27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881823-AC7B-412C-9DA0-E9F940B079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304920" y="1143000"/>
            <a:ext cx="83815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cronym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f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folio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of of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F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est For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Accept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L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Development 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 Level 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ject Matter 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 Requirements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Acceptance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04920" y="15228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endix: Acr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Num" idx="7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A14E8B-ACF0-4AA3-A0B6-127BDA82E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52280" y="956880"/>
            <a:ext cx="838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Structure – IT Planning Consulting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143000" y="152280"/>
            <a:ext cx="5486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 Structure - 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294120" y="3962520"/>
          <a:ext cx="8555400" cy="25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4120" y="3962520"/>
                    <a:ext cx="855540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380880" y="1676520"/>
            <a:ext cx="3047760" cy="6854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igibility and Benefit 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3505320" y="1676520"/>
            <a:ext cx="3047760" cy="6854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ren and Family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705720" y="1676520"/>
            <a:ext cx="2133360" cy="6854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alth Care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38088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igibilit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iC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P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190512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Support Enfor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PAC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"/>
          <p:cNvSpPr/>
          <p:nvPr/>
        </p:nvSpPr>
        <p:spPr>
          <a:xfrm>
            <a:off x="358128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vid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PELIC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510552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ild Wel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P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7086600" y="2514600"/>
            <a:ext cx="1447560" cy="11426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se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(HC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o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Num" idx="8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407BCC3-5FC6-4E4B-9B1D-F3B2188FE2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143000" y="152280"/>
            <a:ext cx="54860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act Structure - 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266760" y="1600200"/>
          <a:ext cx="8610120" cy="22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600200"/>
                    <a:ext cx="8610120" cy="22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graphicFrame>
        <p:nvGraphicFramePr>
          <p:cNvPr id="122" name="Object 11"/>
          <p:cNvGraphicFramePr/>
          <p:nvPr/>
        </p:nvGraphicFramePr>
        <p:xfrm>
          <a:off x="228600" y="4179240"/>
          <a:ext cx="8686440" cy="244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179240"/>
                    <a:ext cx="8686440" cy="24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Box 12"/>
          <p:cNvSpPr/>
          <p:nvPr/>
        </p:nvSpPr>
        <p:spPr>
          <a:xfrm>
            <a:off x="152280" y="956880"/>
            <a:ext cx="8381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Structure – System Architecture Services / Lot 6 - Delo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152280" y="3809880"/>
            <a:ext cx="838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Structure – Technical Support Services / Lot 7 - Deloi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Num" idx="9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B8AC10-F059-4AFB-B94F-7F1B5B5E40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99160" y="1143000"/>
            <a:ext cx="8844480" cy="52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al Sco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gning to Strategic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ning &amp; Consulting Contractor (not technical contractor)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vol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ewed Emphasis on Ch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ds in 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ists in Understanding Scope &amp; 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im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Planning (B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16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 Level (H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28600" y="152280"/>
            <a:ext cx="6933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6-09 - What’s New /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Num" idx="10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F8301E-E4B5-4DE8-82D1-1C0FA16968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71440" y="1219320"/>
            <a:ext cx="83815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ecutiv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e the Department’s strategic direction and busines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Executive Bo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Technology Council (B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&amp; Portfoli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tate and coordinate activities across the entire portfolio of the        Department’s IT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ter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eer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 and execute the activities of an individual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-Projec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ge Control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Training and Support T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447920" y="152280"/>
            <a:ext cx="4190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Num" idx="11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0014FFC-BAA8-411B-BEB6-70A98F77D1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304920" y="1143000"/>
            <a:ext cx="8534160" cy="52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reau of Information System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– Subject Matter Experts (SMEs), Business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Contr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Contractor (Deloit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Primary Point(s) of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y to Planning Contract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ategic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-Flight Projects - Role of New Contr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S – Cross-Lot Transi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19040" y="228600"/>
            <a:ext cx="2122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Num" idx="12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E51161B-68F2-48F2-A625-76C6615C32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304920" y="1143000"/>
            <a:ext cx="83815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Support &amp; Services (16-09 Contract) – Road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04920" y="228600"/>
            <a:ext cx="6781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chemeClr val="accent3"/>
                </a:solidFill>
                <a:latin typeface="Arial"/>
                <a:ea typeface="ＭＳ Ｐゴシック"/>
              </a:rPr>
              <a:t>Project Lifecycle: Walk-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1481400"/>
            <a:ext cx="8991360" cy="4995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Num" idx="13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397388-C046-4AAC-B2AA-B327EBC07C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4343400" y="1219320"/>
            <a:ext cx="464796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o’s Involv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 Offic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1-5 Contractor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rtfolio Manager (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Manager (Pf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ther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/ Life Cycle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Ini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ined B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Order (WO)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ject Kick-o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used on Busines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iverable Creation -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D Review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Tracing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grated Work Plan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152280"/>
            <a:ext cx="7238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tion / Business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962160" cy="4647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9</TotalTime>
  <Application>LibreOffice/7.4.7.2$Linux_X86_64 LibreOffice_project/40$Build-2</Application>
  <AppVersion>15.0000</AppVersion>
  <Words>1280</Words>
  <Paragraphs>417</Paragraphs>
  <Company>Governors Off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13:17:31Z</dcterms:created>
  <dc:creator>Baer, Lisa</dc:creator>
  <dc:description/>
  <dc:language>en-US</dc:language>
  <cp:lastModifiedBy>xplocal</cp:lastModifiedBy>
  <cp:lastPrinted>2012-02-21T16:52:59Z</cp:lastPrinted>
  <dcterms:modified xsi:type="dcterms:W3CDTF">2012-05-23T15:11:35Z</dcterms:modified>
  <cp:revision>12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3</vt:r8>
  </property>
  <property fmtid="{D5CDD505-2E9C-101B-9397-08002B2CF9AE}" pid="3" name="PresentationFormat">
    <vt:lpwstr>On-screen Show (4:3)</vt:lpwstr>
  </property>
  <property fmtid="{D5CDD505-2E9C-101B-9397-08002B2CF9AE}" pid="4" name="Slides">
    <vt:r8>23</vt:r8>
  </property>
</Properties>
</file>