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2E944B-C9B8-41BC-8B00-C7D187CF8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8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FC59D8-E54D-497F-B9A8-109862AAD2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37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4A62D0-DF31-47B6-8ACD-8F73BEDAE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38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38310F-4DE7-4C5A-8778-21E58AC9C2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9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B69650-7B6F-4F3C-9419-47899EC728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&amp; User Training Planning Begins (Lots 1-5):  It can start sooner depending upon specifics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40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F9F216-0D1B-4EBA-AB39-0210FC5EA9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41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D89B71-381B-4D08-AFC4-F08B62555F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/ Operational Readiness Certification – Used to inform a Project “Go / No-Go”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42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13EFFC-B4DB-456C-B02B-21428CBEA2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43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A165B0-9434-4142-8B9F-066E71B31A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44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1A9743-5035-49A9-B93E-3317C5720C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45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59E975-12E8-4683-9573-194991AB14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46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968E72-1D11-41B5-85EB-231DF5E764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9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E580CB-CFBC-4927-B80C-CD8498C6A5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47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22984D-653C-440D-B1DA-A98817911B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48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0F2E7D-23FA-4338-AD50-B770389B5E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49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54C4F5-6D80-4773-AFAD-DEDE2E4327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50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AA8118-5568-49C7-B856-59289E3BD6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MG – No acronym (initi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G – Public Consult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 - Affiliated Computer Service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30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816CA7-51E1-4955-BAB1-3486AFD63D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31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B826C0-B2D1-4AAB-ABAC-315442A03B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32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2035EC-B314-4DE6-81B6-D2DF09098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Manag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Includes the IT Executive Governance Board and the Business Technology Coun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ment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Steering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roject Teams, sub-project tea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33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60D5D4-B816-4F01-9FC8-F087BBAD5E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34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443662-421B-4490-A325-802EDF598F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35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A80BDD-97E7-43D2-B872-DB69F746C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36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BA480E-9568-4822-8DC1-D8875A85A5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CBCC-EEDA-4E7A-BE00-2E3A3FF4D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CEA6-1B5D-4402-8AE2-FF117AADF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1FA4-8478-4B3D-9687-965D55291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D8FA-BFAE-47EC-B68E-7637F9DA7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37F4-29C4-4B6C-A5DD-BAB405527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8035-A5A9-494B-AF2D-1A6915CDD4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1763-A41A-4EF9-AE5C-14358FC319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0DD4-EE8D-4DCC-BB8F-23EE030BED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9D6C-45E0-42C7-AEA5-CC1171DA49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36BB-3617-4AD3-B893-198837777B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7E6D-2FF9-46BB-AACE-A59C70733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9913-4B48-4002-8A4B-A68D9CCFD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1BAF-FAF2-4DD2-8904-AA6FDD974D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AB02-B30A-4FBB-B505-3E62BD62C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EB68-4393-4586-83BB-A0EF203702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93DD-F5E1-4C3A-B206-2C407C470F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F9DD-5F71-462C-8FD1-5DBA73E057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513E-5A6F-45EA-94D3-873314095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C4CF-56B2-4195-B55E-1DAB127A8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C6EC-070D-4DF9-8981-7492436A3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1587-39D8-499A-9DE6-D06DCE889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0AF8-FA54-48BD-BE6E-6177DD2A8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D220-3AAA-4E74-B710-1D780107C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B1FC-B979-4F68-A0CE-72747FA1D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7086600" y="6095880"/>
            <a:ext cx="1904760" cy="609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DPW PowerPoint Templateinside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9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ED7B55-0C45-4284-994D-882D29E1B417}" type="slidenum">
              <a:rPr b="0" lang="en-US" sz="1200" spc="-1" strike="noStrike">
                <a:solidFill>
                  <a:srgbClr val="8b8b9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7086600" y="6095880"/>
            <a:ext cx="1904760" cy="609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DPW PowerPoint Templateinside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919F256-B61E-41DC-8E17-6086796FF187}" type="slidenum">
              <a:rPr b="0" lang="en-US" sz="1200" spc="-1" strike="noStrike">
                <a:solidFill>
                  <a:srgbClr val="8b8b8b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ibennett@pa.gov" TargetMode="External"/><Relationship Id="rId2" Type="http://schemas.openxmlformats.org/officeDocument/2006/relationships/hyperlink" Target="mailto:jheil@pa.gov" TargetMode="External"/><Relationship Id="rId3" Type="http://schemas.openxmlformats.org/officeDocument/2006/relationships/hyperlink" Target="mailto:losteele@pa.gov" TargetMode="External"/><Relationship Id="rId4" Type="http://schemas.openxmlformats.org/officeDocument/2006/relationships/hyperlink" Target="mailto:jreeder@pa.gov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DPW PowerPoint Templat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9" name="Rectangle 2"/>
          <p:cNvSpPr/>
          <p:nvPr/>
        </p:nvSpPr>
        <p:spPr>
          <a:xfrm>
            <a:off x="914400" y="3809880"/>
            <a:ext cx="723852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T Contract Transi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gram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2286000" y="5043600"/>
            <a:ext cx="4114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ivision of Enterprise Program &amp; Portfoli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Num" idx="14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20BE1C2-D9F5-43AB-A8A7-6E813326D2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04920" y="1143000"/>
            <a:ext cx="838152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-off to Lot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k-Through of Business Requirements Definition (B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e / Clarify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d by BIS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 - 6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TC Approval of B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 – Project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64240" y="152280"/>
            <a:ext cx="4809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sines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Num" idx="15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96A6EC-EF77-411F-BEBB-02030D7277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4343400" y="1143000"/>
            <a:ext cx="4571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6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Technic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&amp;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Project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d HLE and Work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Feasibility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Solut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Review Board (AR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Conti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Work Plan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711720" y="152280"/>
            <a:ext cx="5668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 Requirements / G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14440" cy="4723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Num" idx="16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96536D2-52FF-46FE-9292-EB22AE2AFD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04920" y="1143000"/>
            <a:ext cx="83815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-off to Lo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k-through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Requirements Definition (S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Systems Design (G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e / Clarify / Align SRD &amp; G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6 &amp; 7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d by BIS 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 – Project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Num" idx="17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EB1E551-0CFC-4635-8010-1D797711B6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4648320" y="1143000"/>
            <a:ext cx="43430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7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&amp;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Project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 creation - D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Conti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Work Plan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&amp; User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s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 Profile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k-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ment of Test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28600" y="152280"/>
            <a:ext cx="685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ailed System Design /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343040" cy="4876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Num" idx="18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D51F6B0-2ADD-493B-AB10-24931477D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110960"/>
            <a:ext cx="83815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-off for User Accept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and Al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Need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7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Quality Assurance (prior to software promotion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 – Project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Num" idx="19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C7A74CD-63C9-41EC-8314-B800F674BA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191120" y="1219320"/>
            <a:ext cx="4744080" cy="52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7 Contra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&amp; Portfolio Mana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Project Stakehol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s cre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/ Operational Readiness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Guides / Tip She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Materia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Plan Upd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 Approv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Contin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Support &amp; User Train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Conti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Delivery Plan Finaliz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152280"/>
            <a:ext cx="7238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r Acceptance Testing /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885840" cy="4800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Num" idx="20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8B5B1E-8865-46C0-B804-ED2D5957F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04920" y="1110960"/>
            <a:ext cx="8381520" cy="49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Readiness Certificatio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Readiness Certificatio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al Requirements SLA Check-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7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Quality Assurance (prior to software promotion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 – Project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Num" idx="21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82BF9F-193B-435B-9537-379FB70818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818160" y="1143000"/>
            <a:ext cx="50968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7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1-5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&amp;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Project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Play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Readiness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Readiness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/ User Support and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ion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23880" y="152280"/>
            <a:ext cx="3556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14240" cy="4419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Num" idx="22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185A315-6BFC-4EC3-B0FB-2F187EE027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733920" y="1447920"/>
            <a:ext cx="525744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Lot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s P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Metrics Comparis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oject Char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Closeou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Transition to Mainte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 - Maintenance 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8200" y="228600"/>
            <a:ext cx="4111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eratio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659880" y="1455840"/>
            <a:ext cx="2895120" cy="419076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Num" idx="23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2373A4-C951-4143-BFAC-5D01083150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304920" y="1143000"/>
            <a:ext cx="8539560" cy="53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572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ease Management S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Schedule  –  Applies to all 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nce from original project schedule will be calcu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Deliverables – Applies to all 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age of on-time deliverable submissions calcu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al Requirements  –  Applies to Lots 6,7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age of functional requirements delivered when project impl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ion Release Error Rates  –  Applies to Lot 7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# of Errors released into production with project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ergency Software Releases  –  Applies to Lot 7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Post-Implementation Error Fi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Desk Management S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of Service  –  Applies to Lots 3,5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age of Help Desk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Resolutio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Abando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occurring Problems  –  Applies to Lots 3,5 on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calls to Help Desk for same issue within a 30-day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04920" y="15228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6-09 – Service Level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Num" idx="6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86B720E-3FB3-4690-B664-E4DDBE3112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93" name="Object 1"/>
          <p:cNvGraphicFramePr/>
          <p:nvPr/>
        </p:nvGraphicFramePr>
        <p:xfrm>
          <a:off x="609480" y="1219320"/>
          <a:ext cx="830556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3055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7"/>
          <p:cNvSpPr/>
          <p:nvPr/>
        </p:nvSpPr>
        <p:spPr>
          <a:xfrm>
            <a:off x="1219320" y="15228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act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52280" y="4038480"/>
            <a:ext cx="91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76320" y="2286000"/>
            <a:ext cx="990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/ Consul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24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759FC2-C33C-4A7E-AADD-DF23648417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219320" y="22860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estions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1062720" y="1981080"/>
            <a:ext cx="64004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eau of Information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hard Benne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ribennett@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He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jheil@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i Ste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losteele@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ill Ree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4"/>
              </a:rPr>
              <a:t>jreeder@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25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863716-105F-492B-A90B-8BF9C045CF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04920" y="1143000"/>
            <a:ext cx="83815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crony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al Planning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itectural Review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efit Cos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eau of Inform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Planning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P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Process Re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Technolog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ef Information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ability Maturity Model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sion of Enterpris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sion of Enterprise Program and Portfol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04920" y="15228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: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Num" idx="26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CD6321-5E7C-45E6-8D43-0C465C6503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304920" y="1143000"/>
            <a:ext cx="838152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crony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sion of Infrastructure Management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P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Public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ed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sion of Technology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pris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S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Level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and Community Services Inform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Client Inform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Technology Infrastructur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of Informatio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nsylvania’s Child Support Enfor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LI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nsylvania’s Enterprise To Link Informati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 Acro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15228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: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Num" idx="27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2E72E07-848D-41B1-84C7-F0860C1D12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304920" y="1143000"/>
            <a:ext cx="83815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crony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f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of of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est For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cceptanc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Development 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ject Matter 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Acceptanc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04920" y="15228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: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Num" idx="7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4072267-325E-4929-9BA5-ACFAD64CF4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52280" y="956880"/>
            <a:ext cx="838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Structure – IT Planning Consult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143000" y="152280"/>
            <a:ext cx="5486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act Structure - 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294120" y="3962520"/>
          <a:ext cx="8555400" cy="25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120" y="3962520"/>
                    <a:ext cx="855540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380880" y="1676520"/>
            <a:ext cx="3047760" cy="6854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igibility and Benefit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3505320" y="1676520"/>
            <a:ext cx="3047760" cy="6854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ren and Family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705720" y="1676520"/>
            <a:ext cx="2133360" cy="6854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alth Car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38088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igibilit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iC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P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90512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 Support 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PAC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58128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vide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PELIC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510552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 Wel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P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708660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s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HC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Num" idx="8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D9B7D1-6A5D-4F75-8831-5B597B34FA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143000" y="152280"/>
            <a:ext cx="5486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act Structure - 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66760" y="1600200"/>
          <a:ext cx="8610120" cy="22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00200"/>
                    <a:ext cx="8610120" cy="22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22" name="Object 11"/>
          <p:cNvGraphicFramePr/>
          <p:nvPr/>
        </p:nvGraphicFramePr>
        <p:xfrm>
          <a:off x="228600" y="4179240"/>
          <a:ext cx="8686440" cy="244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79240"/>
                    <a:ext cx="8686440" cy="24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Box 12"/>
          <p:cNvSpPr/>
          <p:nvPr/>
        </p:nvSpPr>
        <p:spPr>
          <a:xfrm>
            <a:off x="152280" y="956880"/>
            <a:ext cx="838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Structure – System Architecture Services / Lot 6 - Delo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152280" y="3809880"/>
            <a:ext cx="838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Structure – Technical Support Services / Lot 7 - Delo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Num" idx="9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AFAB122-6224-4B0F-BDF4-0A19BBF082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99160" y="1143000"/>
            <a:ext cx="884448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al Sco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ing to Strategic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&amp; Consulting Contractor (not technical contractor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wed Emphasis on Ch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ds in 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sts in Understanding Scope &amp; 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Planning (B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Level (H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28600" y="152280"/>
            <a:ext cx="6933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6-09 - What’s New /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Num" idx="10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63C1D34-D6BB-41BD-B01C-82F548111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1440" y="1219320"/>
            <a:ext cx="83815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iv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e the Department’s strategic direction and busines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Executive Bo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Technology Council (B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&amp; Portfoli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 and coordinate activities across the entire portfolio of the        Department’s I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te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and execute the activities of an individual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-Projec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Contr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Training and Suppor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447920" y="152280"/>
            <a:ext cx="4190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Num" idx="11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17C829D-6367-4FB5-84B9-1FFD42BB1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04920" y="1143000"/>
            <a:ext cx="853416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eau of Information System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– Subject Matter Experts (SMEs), Business L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Contractor (Deloit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Primary Point(s) of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y to Planning Contra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ategic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Flight Projects - Role of New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– Cross-Lot Transi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19040" y="228600"/>
            <a:ext cx="212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Num" idx="12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5763BC-842C-42C3-8E29-A8BB2B29FE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04920" y="1143000"/>
            <a:ext cx="8381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Support &amp; Services (16-09 Contract) – Road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04920" y="22860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accent3"/>
                </a:solidFill>
                <a:latin typeface="Arial"/>
                <a:ea typeface="ＭＳ Ｐゴシック"/>
              </a:rPr>
              <a:t>Project Lifecycle: Walk-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1481400"/>
            <a:ext cx="8991360" cy="499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Num" idx="13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DF0789-0E77-46F6-9E8A-0504815B5F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343400" y="1219320"/>
            <a:ext cx="46479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1-5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folio Manager (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Manager (Pf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d B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Order (WO)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Kick-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Work Plan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ed on Busines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 Creation - B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D Review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Work Plan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152280"/>
            <a:ext cx="7238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tiation / Busines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62160" cy="4647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9</TotalTime>
  <Application>LibreOffice/7.4.7.2$Linux_X86_64 LibreOffice_project/40$Build-2</Application>
  <AppVersion>15.0000</AppVersion>
  <Words>1280</Words>
  <Paragraphs>417</Paragraphs>
  <Company>Governors Off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3:17:31Z</dcterms:created>
  <dc:creator>Baer, Lisa</dc:creator>
  <dc:description/>
  <dc:language>en-US</dc:language>
  <cp:lastModifiedBy>xplocal</cp:lastModifiedBy>
  <cp:lastPrinted>2012-02-21T16:52:59Z</cp:lastPrinted>
  <dcterms:modified xsi:type="dcterms:W3CDTF">2012-05-23T15:11:35Z</dcterms:modified>
  <cp:revision>12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3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